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9BAA-214D-4BC1-9DEA-196DFF6F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unctionalfitmag.com/blog/2012/07/30/protein-foods-protein-powder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nolarecipes.com/food-fact-or-fa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fwindsor.com/index.php?title=File:Canada_Food_Guide_2012_side_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dyscan.md/body_sca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to2.wordpress.com/2010/01/11/full-body-scanners-may-damage-human-dn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echgon.com/x-ray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upload.wikimedia.org/wikipedia/commons/d/da/Head_CT_sc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332-4DDE-44E4-BBB9-A756C429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C64-9A2B-4D41-B94F-E64C52E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E20-7447-43F2-9046-C25DAB2A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89A-1B93-40A2-8796-F4C488BD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B9B-5FD0-4A6A-85B7-8F0BB71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214-9E5C-46E5-BC54-BE2EA4E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993-31F2-464E-8788-A6BAB145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222-93C9-4156-B59C-D3811F8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675-955F-4F8F-8FC0-1336981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A02-A621-497C-918F-528D1ED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E72-5D87-49A4-838E-AA0BABD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188-7E1A-45C8-BA47-9E40E6E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DDF8-B736-49D2-89E2-753B817D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: Structure 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energy do you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…4.1 kJ/kg/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ting…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…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keyboard…9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3.2 km/h…1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12.9 km/h…6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ble 1, page 3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used by living organisms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ources are fruits &amp; vegetables and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different functions an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ave the same basic structure: they are made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mino acid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2509920"/>
            <a:ext cx="44956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used by animals as 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mportant in cell membranes, some hormones, insulation  of organ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ody is made up of 55-60%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eeded for the cell cytoplasm, for chemical reactions, to digest food &amp; eliminate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drink about 2 litres of water a day (in addition to the water you get in fo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tamins &amp;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 &amp; minerals are nutrients that are needed in very small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soluble vitamins (A,D,E,K) vs. water-solubl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such as calcium &amp; phophorus are important for your bones, iron is important in your blo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Food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1981080"/>
            <a:ext cx="345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427040"/>
            <a:ext cx="8915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52520" y="609480"/>
            <a:ext cx="643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5400" y="609480"/>
            <a:ext cx="769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9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ies Assign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choo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chnique or technology that is used to ei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agnose a disorder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 a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preparing a 1-page summary on the technique/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ue on Monday, May 13, 2013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l of the chemical reactions that occur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rate depends on body size, physical activity, sex, age, hereditar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41:04Z</dcterms:created>
  <dc:creator>rubina khan</dc:creator>
  <dc:description/>
  <dc:language>en-US</dc:language>
  <cp:lastModifiedBy>rubina khan</cp:lastModifiedBy>
  <dcterms:modified xsi:type="dcterms:W3CDTF">2013-05-01T20:12:50Z</dcterms:modified>
  <cp:revision>29</cp:revision>
  <dc:subject/>
  <dc:title>PowerPoint Presentation</dc:title>
</cp:coreProperties>
</file>